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9AFD6-2C39-442E-BE18-8B61F4F395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4AA40-B671-4B44-B218-CC7CB1008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0B732-F0EC-4BD7-8BE6-C7E17B607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12C09-A1A3-4B5E-B2A5-89D2C1851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898F8-F6CF-437F-947C-D11CEA7F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A6C02-0E29-4AFE-A2D6-08B6F266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2276D-C6E7-4406-989A-D03A7945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CE474-0C4E-4F98-B905-73FDAF57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A96E0-A193-4DD7-AB26-45CF0207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DCAB5-24B1-4014-B469-B1413D0D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95711-99C4-45B5-BBFA-8620AD3A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B00B8-652A-4906-AE38-DD93C88DF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7A6B2-B584-4624-892E-29EB6550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4D062-CCCA-4490-83DF-7CABEE5D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F1E3E-39C9-4074-9B62-F4BC3F97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BC201-EBD9-4ACA-B276-5D8969E9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4711C-6E94-4282-A114-19E62EFE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E585-A3E4-4869-8820-E4F39CABD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72BBB-E53D-424F-89E4-D9CAC1C5D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75A31-9308-4DE0-A231-599307F08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BA408-5A4E-4287-B279-4A2796FD9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87278-80BC-4ACE-B689-59C6B0DE9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73E88-D53B-403F-B1C9-C031A3AA1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ED6FD-250C-4014-A593-36C6A87D5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6222240" y="624852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5353-3289-4E69-A846-E57C6525E34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ACE7-8D4A-4BC6-89F4-E3B7635504FA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5053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: Planeación de Requerimiento de Mater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4114800" cy="177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61800" y="1981080"/>
            <a:ext cx="45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Tiempos Planeados de Esp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15160" y="5457960"/>
            <a:ext cx="7180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   Se asume que están disponibles la cubierta de la mesa y el ensamble compl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de la pa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** Se asume que están disponibles las patas, travesaños cortos y travesaños lar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DAF25-0636-4FF5-B4EE-0F6AD0328B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4647960" cy="3627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152440" y="1676520"/>
            <a:ext cx="56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lan de Materiales – Detalle de Par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2535F-31D5-46A9-887A-A278970139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84440" y="2006640"/>
            <a:ext cx="4654440" cy="363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2F124-95B7-4871-91D4-B3FBFC18B8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inventario en cada etapa es la diferencia neta entre la producción y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considerar colchones de segur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758FE-20AC-4BD2-8252-6ECFDEBCAB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rograma Maestr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duce al proceso completo de planeación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hasta de un a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Lista de Materiales (BOM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do detallado de todos los materiales y partes necesarias para la confección de los producto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1B345-CA95-41EB-84E5-7747870FEB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Registro de Inv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dentifica, para cada parte, datos bás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estánd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ánto hay de cada pa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ué órdenes están pend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histór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Planeación de Capac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termina la validez del programa maes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C31F3-9FF4-406F-8A24-A65CA2B8A8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foq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eación de la capacidad directa (planeación de recurso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lcular horas aproximadas de mano de obra y de máquinas a usar en el programa maest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la capacidad no alcanza se cambia el plan maestro o se cambi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 tener un programa factible se corre el detalle de par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ga de tall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hace detalle completo de partes antes de ver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no es factible se cambia el plan maestro a la capac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D5CA0-5266-4E24-A224-DD6AC519F1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mpr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función de compras es fuertemente reforzada por el uso de un sistema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ere de confianza con los proveedores al generar fechas más exac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mecanizar las comp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Control de Piso de Tall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 que las órdenes de producción se cump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DFE2-F35C-4F9B-B633-5962F6D79A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mpon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eja las prior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aliza ajuste ante cambios en las condiciones de ope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05968-79F5-4ABB-96C1-AD583B9DAC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Operación del Siste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mejor llevar bien el sistema que tener mucho stock de seguridad para cada par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se necesitan 10 partes para un producto, cada una de las cuales tiene un nivel de servicio del 90%. La probabilidad de tener todas las partes a mano cuando se necesitan es de únicamente 35% (0.9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lo tanto es mucho mejor planear y controlar el tiempo de las 10 partes que cubrir todas las contingencias con stock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ecesidad de respetar MR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E2D91-244D-4167-A46F-A1D83E3E07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utiliza para productos de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onentes intermed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 Sistema Pull en que la demanda final gatilla la demanda por partes y componentes intermed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un programa maestro que guía las órdenes de compra de materia prima y la producción de compon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39F47-75C7-45DE-AF4E-D7FB890A9F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Planear la Puesta en March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vital la prepa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ducación sobre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establecer objetivos, costos y benef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 detallado de 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oporte Computac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atos Exac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ista de materi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s fin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DD985-9376-40E2-9F40-D4B3D8D63C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lementos de Éxi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poyo Geren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Conocimiento del Usuario en Todos los Nive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68DD-4079-45A3-8D4D-3D3C49F195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Benef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yor rotación de invent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rdenamiento del tiempo de entreg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de capac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ducción de 20-30% en los inventar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sto de instalación: 200 mil a 1 millón de dólar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: difícil éxi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EC0C6-FA06-4487-9262-6B7E99BBA0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Para contar con 100 refrigeradores en la semana 8, necesito de 100 motores en la semana 6 y 100 componentes en la seman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eneralmente las entregas y compras se hacen por lo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Se requieren 40 unidades en la semana 3, 30 en la semana 4 y 35 en la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ver como ir produciendo, y consider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producción, incluyendo costo fi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: considerar producción de otros produ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s compras ver la relación con el vendedor y el transpo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688D5-5F0C-4154-AB5D-18B001B817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1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 las compras y la producción en el tiempo, pero no considera capac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2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Control de la producción 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considera la capacidad y se utilizan reglas heurísticas para mover la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4B433-E930-46BF-8197-6A78F64A9D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 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Planeación de Recursos de Manufac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ea y controla todos los recursos de manufactu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ursos mone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qui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54D3E-C277-4201-9576-AAAD7218FD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406520" y="1371600"/>
            <a:ext cx="4537080" cy="5257800"/>
            <a:chOff x="1406520" y="1371600"/>
            <a:chExt cx="4537080" cy="52578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406520" y="1447920"/>
              <a:ext cx="453708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76720" y="1371600"/>
              <a:ext cx="7617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agrega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55800" y="2209680"/>
              <a:ext cx="6858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edidos en firm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 clientes o 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erminad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0640" y="2209680"/>
              <a:ext cx="7113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nóstic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81480" y="3695760"/>
              <a:ext cx="53352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Transaccion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 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6080" y="3708360"/>
              <a:ext cx="53316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Cambios e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el diseño 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79840" y="3586320"/>
              <a:ext cx="184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56000" y="37465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Registro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25680" y="3759120"/>
              <a:ext cx="4572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Lis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d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ahoma"/>
                </a:rPr>
                <a:t>materia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1080" y="3124080"/>
              <a:ext cx="8384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apacidad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rte ru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38560" y="3124080"/>
              <a:ext cx="876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gram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est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51160" y="3809880"/>
              <a:ext cx="83808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tal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par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79840" y="4508640"/>
              <a:ext cx="83808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86200" y="4508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Órde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5079960"/>
              <a:ext cx="762120" cy="29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laneación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la capacid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86200" y="565164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Control de pi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del tal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86200" y="6261120"/>
              <a:ext cx="76212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Operacion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62485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6261120"/>
              <a:ext cx="45720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duc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9000" y="6032520"/>
              <a:ext cx="3808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Materi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im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81360" y="6248520"/>
              <a:ext cx="647640" cy="29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ahoma"/>
                </a:rPr>
                <a:t>Proveedo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354280" y="1757520"/>
            <a:ext cx="209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Sistema MRP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circuito cer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(Tipo 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DB186-EDC5-4FAF-92EF-94A1B3AD96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RP vs Punto de Reord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277640" y="226044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uadro Compara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47920" y="2825640"/>
            <a:ext cx="7162560" cy="18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3BDC2-A47E-44A2-B1EA-5E8A0B9537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222360" y="518148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de la M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224600" cy="30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CA9B3-2CAF-4AA3-A17F-C8C87CD89C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394800" y="51814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ista de 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0360" y="5797440"/>
            <a:ext cx="56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Nota: La cantidad de cada componente se indica entre paré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4038480" cy="30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: MRP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0F9DC-8356-4AF8-9991-5346B42EAF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.................</cp:lastModifiedBy>
  <cp:lastPrinted>2001-08-09T21:48:07Z</cp:lastPrinted>
  <dcterms:modified xsi:type="dcterms:W3CDTF">2008-09-23T13:44:18Z</dcterms:modified>
  <cp:revision>89</cp:revision>
  <dc:subject/>
  <dc:title>Modelamiento Físico de Interfaces</dc:title>
</cp:coreProperties>
</file>